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C60-8FD3-48E4-992C-033EA5F0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7A2-A3AF-4A77-A5C2-91E254AD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2BA-B909-4076-B1D4-8D551D9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285-C836-4F23-A69C-51E0FADE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47D-FF50-4C5B-998D-B1293E0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3D4-4221-4ACB-BFBF-EA7D633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12A-8372-4674-AA38-694225D5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74B-BD03-4D3B-BC21-67F500F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698-F302-4E80-B3C2-F73E3A0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F02-D1F5-45EF-BA53-983E200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40D-6103-47EB-819C-A10B5FB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F81-283D-4B2C-B3C1-F9A984E6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18C0-908B-4894-8DA8-3999C9C5C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762120"/>
          <a:ext cx="8839080" cy="5790240"/>
        </p:xfrm>
        <a:graphic>
          <a:graphicData uri="http://schemas.openxmlformats.org/drawingml/2006/table">
            <a:tbl>
              <a:tblPr/>
              <a:tblGrid>
                <a:gridCol w="1083600"/>
                <a:gridCol w="3054960"/>
                <a:gridCol w="1914120"/>
                <a:gridCol w="2786400"/>
              </a:tblGrid>
              <a:tr h="12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SCOS Goals &amp; Ob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 L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08:36Z</dcterms:created>
  <dc:creator>jmcinnis</dc:creator>
  <dc:description/>
  <dc:language>en-US</dc:language>
  <cp:lastModifiedBy>jmcinnis</cp:lastModifiedBy>
  <dcterms:modified xsi:type="dcterms:W3CDTF">2008-12-08T19:09:23Z</dcterms:modified>
  <cp:revision>1</cp:revision>
  <dc:subject/>
  <dc:title>Slide 1</dc:title>
</cp:coreProperties>
</file>